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32D4-7957-4ED0-A22B-52E42B01D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B699-2627-4618-8CB8-1AD66E4DF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7A99-AA94-4F65-AD7F-E4C7E092C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45FA-56B9-4E85-BF09-3F973505D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90CC-3537-4E89-BF03-6548EAF11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B99D-826A-48FE-AD88-B6F82F68A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A006-E19B-4EFF-BC81-7EDC554E2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7299-6590-4513-BD1B-10F1C1AAC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61D9-C8E2-40ED-A80C-CA9F761AA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6E39-D24A-466B-81B2-D8193EEA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D7BB-97E9-45D1-9FDA-6FCA6258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8395-52D8-403D-B847-B5D77718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F2ADF-2A69-4A2A-A577-E00A2FB167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IENTIFIC EQUIP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50760" y="0"/>
            <a:ext cx="909324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368960" cy="3276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4775040" y="0"/>
            <a:ext cx="4368960" cy="3276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3"/>
          <a:stretch/>
        </p:blipFill>
        <p:spPr>
          <a:xfrm>
            <a:off x="2590920" y="365760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978440" cy="3733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2"/>
          <a:stretch/>
        </p:blipFill>
        <p:spPr>
          <a:xfrm>
            <a:off x="5003640" y="1981080"/>
            <a:ext cx="41403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838080" y="22320"/>
            <a:ext cx="739152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4191120" cy="4190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4800600" y="-90360"/>
            <a:ext cx="3505320" cy="69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3048120" cy="2790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2819520" y="2114640"/>
            <a:ext cx="632448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4" name="Rectangle 2"/>
          <p:cNvGrpSpPr/>
          <p:nvPr/>
        </p:nvGrpSpPr>
        <p:grpSpPr>
          <a:xfrm>
            <a:off x="3676680" y="5529240"/>
            <a:ext cx="2475000" cy="639720"/>
            <a:chOff x="3676680" y="5529240"/>
            <a:chExt cx="2475000" cy="639720"/>
          </a:xfrm>
        </p:grpSpPr>
        <p:pic>
          <p:nvPicPr>
            <p:cNvPr id="55" name="Rectangle 2" descr=""/>
            <p:cNvPicPr/>
            <p:nvPr/>
          </p:nvPicPr>
          <p:blipFill>
            <a:blip r:embed="rId2"/>
            <a:stretch/>
          </p:blipFill>
          <p:spPr>
            <a:xfrm>
              <a:off x="3676680" y="5529240"/>
              <a:ext cx="24750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733920" y="5562720"/>
              <a:ext cx="23619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457200" y="0"/>
            <a:ext cx="4648320" cy="3486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2209680" y="3511440"/>
            <a:ext cx="4724640" cy="3346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3"/>
          <a:stretch/>
        </p:blipFill>
        <p:spPr>
          <a:xfrm>
            <a:off x="4800600" y="0"/>
            <a:ext cx="35053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03:50:35Z</dcterms:created>
  <dc:creator>ECU</dc:creator>
  <dc:description/>
  <dc:language>en-US</dc:language>
  <cp:lastModifiedBy>ECU</cp:lastModifiedBy>
  <dcterms:modified xsi:type="dcterms:W3CDTF">2010-02-04T03:36:47Z</dcterms:modified>
  <cp:revision>4</cp:revision>
  <dc:subject/>
  <dc:title>Slide 1</dc:title>
</cp:coreProperties>
</file>